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B440-E209-4A0D-A5C3-BACAF4F52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one of the points of interest for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map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picture of one of the geographic features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season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an animal and or plant found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 key points in the history of your country to the timeli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custom or tradition 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the head leader of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that illustrates some part of your country’s econom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73B-D6FF-4B8D-98E3-D6036A2D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0C93-85DA-47AA-BCE0-161ABAD6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4F9-442A-41C0-9E77-2B22569B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8D7-6EEB-4509-99B3-17347ACB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59B2-BA80-43F1-BDF2-6483A16D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9352-481E-42EF-BCE3-4ADD4D63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0AC8-FF76-4C5F-8A57-E50C2C39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F5B4-073F-4C8B-88D6-D4EA4698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5687-BAB7-4A35-8A83-0673F8CE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8B73-34E5-4822-8434-978FEA3D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026F-3E92-4015-A978-DCDED543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EBF-8D71-4C71-AD0E-AB768B4A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F811-1666-4DDD-908B-B0A98DD6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CB74-E418-4491-B3B9-C8258958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ED71-CB3C-40F2-8DAC-2BDF89F7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B27C-9786-4041-A410-F0F098FE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88CD-CA86-4E20-8CF2-E0506DAA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1220-24C2-4E02-B33D-C60B9329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A09-1CB9-484E-8034-11F70717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654-8E7D-4D1D-BD71-D0A4A0F8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CD4-88D9-493D-A70C-73120564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588-D383-4297-A100-617F9EFF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CCB-48A4-4315-8B3D-0AC6DD89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377-F944-4C13-93CF-25DB2C77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BB2A-AB0E-48E0-AD24-8CFDFE417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498A-74C9-4F8C-BCFA-6CEEDB19D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71280" y="2168640"/>
            <a:ext cx="6891480" cy="16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ame of Your Countr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03848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Tea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Gr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ourism in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points of interest in your country that people from other countries may be interested in visi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urrent Ev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tle of the ev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y (5 senten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iteracy Rate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85800" y="214776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4776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ainfall in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85800" y="214776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4776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emperature in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682560" y="2133720"/>
          <a:ext cx="774072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133720"/>
                    <a:ext cx="774072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Where (your country) is locate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which conti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country is 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and wh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ntries are 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ighb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647960" y="21337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57200" y="2209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31280" y="799920"/>
            <a:ext cx="834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Geographic Features of (your country)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80988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any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vers, lakes, ocean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ain ranges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geograph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s that can 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in or next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cou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647960" y="20574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mate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7242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typical weather patterns in your country throughout the calendar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nvironm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ome of the environmental issues and natural hazards that take place in your cou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775480" y="263196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5410080" y="3505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3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story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21337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a timeline of the important historical events of your country or provi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50920" y="3249720"/>
          <a:ext cx="8664480" cy="3471840"/>
        </p:xfrm>
        <a:graphic>
          <a:graphicData uri="http://schemas.openxmlformats.org/drawingml/2006/table">
            <a:tbl>
              <a:tblPr/>
              <a:tblGrid>
                <a:gridCol w="1571760"/>
                <a:gridCol w="1594080"/>
                <a:gridCol w="1745640"/>
                <a:gridCol w="1746000"/>
                <a:gridCol w="1571760"/>
                <a:gridCol w="216000"/>
                <a:gridCol w="219240"/>
              </a:tblGrid>
              <a:tr h="100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th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th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184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ustoms and Tradi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48320" y="2209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important customs and traditions celebrated in your country. Include information about who celebrates and when they celebr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30481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Governm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what form of government and who is the leader of your country. Identify when and from whom your country gained independence fr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5257800" y="3200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conomy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48320" y="214776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which goods and services are produced in your country. What is the GDP per capita, unemployment rate, and population below the poverty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16:42:19Z</dcterms:created>
  <dc:creator>Connie Campbell</dc:creator>
  <dc:description/>
  <dc:language>en-US</dc:language>
  <cp:lastModifiedBy>teacher</cp:lastModifiedBy>
  <dcterms:modified xsi:type="dcterms:W3CDTF">2008-01-02T15:56:01Z</dcterms:modified>
  <cp:revision>4</cp:revision>
  <dc:subject/>
  <dc:title>Name of Your Country</dc:title>
</cp:coreProperties>
</file>